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2A5-1153-4ED3-83AA-92F2CCE7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41D-CB82-420C-83A2-BF10AF86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A03-DB7B-4325-B0FD-F628A791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89E-6B69-4B0C-AAFF-0D9BE2C5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CA553-97D4-4DB9-A606-308E6183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1D42B-D5D3-436B-A821-ED62F074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61B9E-C2F8-40D3-B122-07993406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8F5B8-84A5-44C4-AEDA-362F1983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C0823-26FF-42B8-9FB0-1A4ECDAD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1C221-12D6-4B56-9EB3-2DF939D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BD6C5-6A14-4ADA-B581-404B5AB0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4FE-B75E-4E04-8544-A109981C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6C3AF-B033-4B8E-AEE7-BE31EFAE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080C6-455F-4519-B7AD-DA24C16A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53DA2-9C9B-4BDA-B8CA-5987A361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7C55A-7705-463A-AD8B-891FA1EA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65EB2-82DD-427F-B9F3-E8F35BDB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D01-17A7-4877-BD16-1DA245C2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CB5-9BDA-4F37-9CBF-3EAF75EA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CDA-0361-421E-9DDC-6D59490D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27A-FB2F-4C98-A360-2F15C236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E01-E442-4024-891C-1F3BBD5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37F-FE56-4D72-BB97-42F2F71F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9CA-2B92-4F44-B18A-9D1D3E51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3669-6610-4B70-A678-E76BEBEFD0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0E94-1A02-41A0-B7B8-4E59627E8F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Мастер – класс по рисованию с помощью губки и малярного скотча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"Мы учимся рисовать"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тель Дерендеева И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/с «Ручеё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5800" y="6019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ям постарше ( 4 -5 лет) можно предложить раскрасить черепашку с помощью губки и малярного скотч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8153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Описание рабо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Рисование губкой очень увлекательное занятие, особенно для маленьких детей . Держать карандаш или кисточку для них еще трудновато, так как рисование карандашом требует от детей определённого нажима для того, чтобы он начал оставлять на бумаге яркие черточки, кружочки. Деткам до 2-3 лет сложно рисовать с помощью кисточки, поэтому используем всевозможные заменители кистей.</a:t>
            </a:r>
            <a:br>
              <a:rPr sz="7200"/>
            </a:b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Рисование губкой с одной стороны хороший способ развития фантазии, с другой — развитие умения рисовать. Простота создания рисунка с помощью губки придает ребенку уверенность в своих силах и не требует от него определенных умений рисовать.</a:t>
            </a:r>
            <a:br>
              <a:rPr sz="7200"/>
            </a:b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Мастер – класс будет полезен в работе воспитателей детских садов и родителей с детьми от 2 лет , а также всем творческим людям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ель: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ние яркого рисунка в стиле абстра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увлечь детей интересным способом рисования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формировать интерес и положительного отношения к рисованию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звивать мелкую моторику, глазомер, пространственное воображение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звивать творческие способности, воображение, фантазию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звивать эстетический и художественный вкус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воспитывать самостоятельность, аккуратность, любознатель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создания такого рисунка нам потребуется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белый картон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гуашь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губка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малярный скотч( узкий)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ожницы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6019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ачала нарезаем губку на маленькие кусочки, для того чтобы маленькой детской руке было удобнее держ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6019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лее в одноразовых тарелочках разводим гуашь. В данном случае мы взяли 4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ртон необходимо заклеить хаотично полосками малярного скотча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5667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ачала предлагаем ребенку потрогать, почувствовать губку, какая она мягкая, сухая, мокрая. Показываем, как можно наносить мазки поверх малярного скотча. Потом ребенок сам берет губку, обмакивает ее в краску одного цвета и закрашивает лист бумаги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594216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гда краска высохнет, можно аккуратно оторвать полоски малярного скотча. Такой рисунок в стиле абстракции, можно вставить в рамку и повесить на стену такую необычную картину ребенка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9T14:07:41Z</dcterms:created>
  <dc:creator>Ucer</dc:creator>
  <dc:description/>
  <dc:language>en-US</dc:language>
  <cp:lastModifiedBy>Ucer</cp:lastModifiedBy>
  <dcterms:modified xsi:type="dcterms:W3CDTF">2019-03-09T14:37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